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880-E36A-4A38-B8C4-07D938DB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8F7-6EE9-49F1-9E8D-3F26B2F7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6E1-E3CB-484F-97CF-F59DEE13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38E-1F0D-463D-B080-8DC8C8CE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AEC-6565-432F-83FA-B918FBFB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5625-F156-4B4C-8FB4-5F15942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A31-18B1-48FB-B0AE-08DDC464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0CAC-3BE4-4672-952E-3927296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234-38E0-4DCA-A7F6-3263058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8AAF-89A4-4FAE-BF27-C5EC07D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CDA9-7C13-438A-83DD-6531ADE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75B-7B4D-451C-A58F-EEA8ECFF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06D2-D5B7-461A-AA1D-2B2791F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8C0A-12AD-4101-BFD1-C920EC0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BDB-B5BB-4D78-9B44-34A31E6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2C21-C5F8-4EA5-AB14-100D0DC6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8BB0-C73A-471C-BD94-3CE5461C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E5A01-264B-42C1-9982-41FFC5DE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14A46-FF73-49FD-A041-48E57C1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3E3A7-62FA-4F69-944F-83AF52C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BB6A2-D222-44AA-A1F1-E568F35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F3A9E-4870-47E9-B154-E0ACACF3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CA7-8DD5-4F6F-A716-59FEACEB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DFDB9-4DA4-43E4-A856-CB61B19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424D2-5E36-4F8E-B77E-1CA5D98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20D8C-5BF1-4822-9BC8-B3B8001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6A61C-3FF5-4138-9EEB-AC33FE1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920B2-9130-44A3-81DD-CBDB989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D8EC6-51A7-4198-A864-DCEA3FB7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76074-979A-48BD-B655-6DCFD7FC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FFAC-DE66-48C4-BEF8-5DC5B5F9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F5C14-9456-4E71-B512-588893F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0F342-4211-4FB5-AEF8-1613EEA4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51B-292B-48D8-B3D9-DE48667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102D-6FA3-42DD-80B1-9E7B0217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4585-C584-424E-9614-89CFE3D5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4F66-851A-40DD-9109-4E870B79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61EF-893A-4B5D-9A88-980BF05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77C7-9E86-4FA8-AC59-ED716C1C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BBD0-7CF7-4809-BFA7-FE4A3B5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1584-E3E3-4722-AF28-3D39E5C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E55B-6745-4235-9A14-BD2F9CC5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B334-86AA-4047-962D-52E211D8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A97D-B86A-4276-A09A-EE3D50B3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F69-25C6-48A1-9BE3-FA5E3F7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17598-F027-4E7B-BCF1-4A4E2C3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512A4-12AC-4372-BDAF-64BA5041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7162E-EFAB-41F1-8E1C-CD531B2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34DCE-D17A-47EA-A5B6-0AD66CA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3772F-B5E4-42B9-933E-F97F5DA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0D7F6-3569-40B6-B4EF-E9AE255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982A4-E977-469B-8731-835F1F0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A4524-B36F-4D8B-8BC4-94F218C3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27420-CF5B-4201-82CC-A8F28108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E3563-7656-48B9-9123-9EF7E7CB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782-3264-4894-BD4C-640B04A1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7F131-92AA-4084-859F-67B4BCBA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8DD7C-EEF1-4AB5-BB0B-5514F9ED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4534B-DED7-4FCB-AADA-E8EA935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154B8-C174-47C8-84B5-D6E9DF87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5ECA9-988B-4DCA-B423-AD61340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6EE57-8E11-43BC-97A3-0F6E385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4EB39-C8D0-47BA-896A-C7CA7F3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D4947-B0DC-4135-9390-DE0329E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89CE9-C82D-4EB0-9953-CDF3612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DA931-E194-4145-9583-DF86DEE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299-E56E-4AA2-8DF8-1E42812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4BEC5-1D84-4D1C-AD33-9F6F346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1B5C1-C3A8-4A1B-A8F2-4431943A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2DCD2-DB5E-4631-B7EF-9946BD2F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C059F-25CC-4A56-869E-7D258F9E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833E4-DEC4-43AD-9452-A31BEC6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34ED2-4295-497E-80EF-759A57D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B5A6E-F7C0-485C-84A9-A4F2424F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CDDCA-3C4D-4982-8E03-FCEC849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AF415E-8841-4927-82DD-9DC06A5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E6812-5503-4461-AB7D-1E0DB67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E4A-C392-442F-896C-5AD148EC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E94D1-20D5-4651-88CB-3BD525DC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BC913-9B5E-49AD-85AD-A999D8C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266E5-CB9D-489E-9C12-FA917A3D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781D8-F042-4C29-B520-C20D9A8F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ECC76-B092-4E5C-B0B7-9D95DE1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941-2584-443B-B327-82A82358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0BC08-0ED2-454E-ADD7-E5CE417B5998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1376F-B11E-40EF-8825-1F969ADD5A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F3CAC-4A3C-40E7-AB42-F19ED3BE883C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58868-9931-4C19-9662-12C12C356ED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16C45-A2CA-418F-8ACC-E2C334614BB2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0E813-15B7-47BB-9A79-1837975031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FC846-BF86-4CE8-BB87-32CEEF5603DB}" type="datetime"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6E83A-E24B-4830-99CB-D280D27678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124B3-4CF5-4EAE-BF30-D01B81A101C5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89276-026C-43A1-B767-C63B846B97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0BF90-DF62-4400-9421-35442CACDEF8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96FBE-F45D-4359-A34C-1FF7D01EAD4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EDA1B-3963-4BD0-AA54-205F6C6E2EF7}" type="datetime"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17B3B-BF49-466E-B22B-08F5E7BBDC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aldwick.k12.nj.us/waldwick/High%20School/Media%20Center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6</a:t>
            </a:r>
            <a:r>
              <a:rPr b="1" lang="en-US" sz="4800" spc="-1" strike="noStrike" baseline="30000">
                <a:solidFill>
                  <a:srgbClr val="4e5b6f"/>
                </a:solidFill>
                <a:latin typeface="Century Schoolbook"/>
              </a:rPr>
              <a:t>TH</a:t>
            </a: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 GRADE </a:t>
            </a:r>
            <a:br>
              <a:rPr sz="4800"/>
            </a:b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SCIENCE FAIR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e5b6f"/>
                </a:solidFill>
                <a:latin typeface="Century Schoolbook"/>
              </a:rPr>
              <a:t>RESEARCHING WITH </a:t>
            </a:r>
            <a:br>
              <a:rPr sz="4800"/>
            </a:br>
            <a:r>
              <a:rPr b="1" lang="en-US" sz="4800" spc="-1" strike="noStrike" u="sng">
                <a:solidFill>
                  <a:srgbClr val="4e5b6f"/>
                </a:solidFill>
                <a:uFillTx/>
                <a:latin typeface="Century Schoolbook"/>
              </a:rPr>
              <a:t>ENCYCLOPEDIAS</a:t>
            </a:r>
            <a:endParaRPr b="0" lang="en-US" sz="48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RINT VS. ELECTRONIC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School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(2012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Electronic – </a:t>
            </a:r>
            <a:r>
              <a:rPr b="0" lang="en-US" sz="2500" spc="-1" strike="noStrike" u="sng">
                <a:solidFill>
                  <a:srgbClr val="eb8803"/>
                </a:solidFill>
                <a:uFillTx/>
                <a:latin typeface="Century Schoolbook"/>
                <a:hlinkClick r:id="rId1"/>
              </a:rPr>
              <a:t>World Book Onlin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Public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(2008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– World Book Student Discovery 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cience Encyclopedia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rint - Variety of Subject-Specific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Encyclopedia Set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1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ST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- LOCATE AN ENCYCLOPEDIA  </a:t>
            </a:r>
            <a:br>
              <a:rPr sz="3000"/>
            </a:b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          ARTICL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is organize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RTICL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ticles are written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UBJECT EXPER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check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DITOR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t editions are organiz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PHABETICAL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the artic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lectronic editions suppo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KEYWORD SEARCH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2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ND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- FILL-IN CITATION INFORMATIO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ticle contributo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tle of the artic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of online encycloped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me of publish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ate of acc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3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RD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 – CREATE CITATION IN MLA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LA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st Name, First Name. “Title of Articl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ame of Encycloped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Name of Publisher, Year of Publication. Medium of Publication. Date of Acce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lle, Roger V. "Jupiter."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World Book Student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orld Book, 2012. Web. 2 Feb. 201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4</a:t>
            </a:r>
            <a:r>
              <a:rPr b="0" lang="en-US" sz="3000" spc="-1" strike="noStrike" baseline="30000">
                <a:solidFill>
                  <a:srgbClr val="4e5b6f"/>
                </a:solidFill>
                <a:latin typeface="Century Schoolbook"/>
              </a:rPr>
              <a:t>TH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– TAKE NOTE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s are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ull sentence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tes are fact fragments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araphrase your fact fragments during the final writing proce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6:22:29Z</dcterms:created>
  <dc:creator>Paul Hummel</dc:creator>
  <dc:description/>
  <dc:language>en-US</dc:language>
  <cp:lastModifiedBy>Paul Hummel</cp:lastModifiedBy>
  <dcterms:modified xsi:type="dcterms:W3CDTF">2012-02-02T22:48:20Z</dcterms:modified>
  <cp:revision>6</cp:revision>
  <dc:subject/>
  <dc:title>6TH Grade  Science Fair:  Researching with  Encyclopedias</dc:title>
</cp:coreProperties>
</file>